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CDC8-B6FF-44A3-B06D-68079D19F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2231-BACD-46EF-883C-ED3FECA07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1AC7-F597-4936-928D-0812C767C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451C-2445-42ED-B55A-353BA50A8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3DDB-63F8-4DF3-9B8C-E317A829A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A935-260F-4721-AECC-39D58A5F2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B3FD-A988-44C8-A64B-11467AE75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7C4B-C3BA-4907-B90A-F915C3AC3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212B-16ED-47CE-8C0B-30E2B6E65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2180-DCA3-471E-8D60-23786165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DB94-6307-4D5A-88C6-65EBBBAF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8277-28A6-4EDF-9EFA-6F0F717A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C6DC2-A759-49D4-B930-38079452F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BEFORE 148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Er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8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BEGI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ig bad Russians descended from Slavs that settled in Ukraine and Russia. In 800 A.D. the Slavs built civilization around now a day Kiev. They called it Kieven Ru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NEW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1000 A.D. their leader accepted Eastern Orthodox Christianity. From 1200 A.D. – 1400 A.D, Mongolians ruled over the Slav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AKING BACK WHAT WAS THEI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cow became a new Slavic area named Muscovy. Their noble prince Ivan the third drove out the Mongols giving Muscovy indepen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50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98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3T18:40:43Z</dcterms:created>
  <dc:creator> </dc:creator>
  <dc:description/>
  <dc:language>en-US</dc:language>
  <cp:lastModifiedBy> </cp:lastModifiedBy>
  <dcterms:modified xsi:type="dcterms:W3CDTF">2010-12-14T14:10:08Z</dcterms:modified>
  <cp:revision>2</cp:revision>
  <dc:subject/>
  <dc:title>HISTORY BEFORE 1917</dc:title>
</cp:coreProperties>
</file>